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9C82-0129-4A84-9B96-9945A26C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6DC-2017-4E00-A96A-DACA16A13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8C17-75D4-4212-9B71-A8F452D4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BE754-8B04-4487-BDC4-3F1142878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8230-93E6-4AF7-AD15-B963067E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3DA8-2818-4B20-B783-7FAF5C02A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FDF0E-21E2-47E4-9CDF-0FEB6F3E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022A-64B7-4CFE-9BE4-78F41BEF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20EF0-4771-454C-AD95-539CAC8C2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0BA61-2742-4678-BF4F-D5A3A92F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AAA7F-5EF1-4BBE-BC34-DA33B32F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558-E322-4C87-8558-16AEE5DC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67E0E-54E2-4879-8323-3B160B9B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7729-7DB5-4CA2-A21D-04FE039F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64F75-C9E7-4128-A45A-5F6A5894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A60C1-41A6-47A1-ADDE-5F8A73408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9D2E0-6196-4DBF-8CAC-209E22BA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62113-52C1-4ED8-8392-7DFC19AE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6810D-D226-4AD0-A81E-E544F5345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D645-6440-4653-A752-5D813A6C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7EDDF-2F58-4517-BF41-7B356B3BC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6C1E4-9531-4B66-8F15-AD10D671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9CC-FB3E-4C2A-9E0D-FBE249B9A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0CB81-B624-4B1B-9B2D-DBB50DF9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A7B9-8015-4891-9AC1-49FAA74E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76B74-4740-4D52-B4D9-A1CB4F1A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93A13-286A-4C41-BC0B-10550B98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A689C-E3B1-4295-ACF4-2EC72EE7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26669-28F9-4B33-B502-F681ACAAD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4B71-BDE4-474F-A07E-CF3647D75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E7064-D3DE-4B7E-876D-29E75E6B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E8F70-1EF8-4522-8662-5C77D9F5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F8181-023A-49C7-A076-96C4130D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0122-881A-4B35-9A6D-697C229B5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1F1B0F-655C-496C-A463-C563F7FD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B674-DECF-49A7-9E63-84D4F1ED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601AB-9386-46C0-96E4-6ADAF549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12C80-D409-4525-B057-2431442A1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B2E4-355B-4E3C-A464-CA39AF7B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695B-97B6-4842-AA7C-A7EC5C5C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89E89-3C2E-479C-9202-D6E599454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FC9AE8-0421-4129-9019-73A2D7FE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BA4348-77E7-4963-9935-7C1655896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7B2CC-AFC4-4E71-AC3A-6FBD7983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ECA-9A7C-40FB-A1B5-AA00A0FA8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04868-7744-46C5-B627-6A3E860F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EEF8F-8DC5-4339-A693-242C51283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3D2A9-90EC-440A-97AF-FE265DEF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D63B-9AF8-42A7-B382-E535DD73C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7022F-85FF-4C50-870D-0B32C4E40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845A89-3F88-440A-B93E-8FED7E5E9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8242D-9FCC-492F-B7C6-2AB581E6E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7034C-CD66-44CC-8A0F-FDE1A8D1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C5554E-11F7-41D6-B5D4-A3CF67AF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15E96-2BB4-42A2-BC7F-430CA2264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17D0-D05C-493E-80B2-D37B941C3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6E160-03CB-48DD-97FB-C958ED3E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4C3-4FB5-42E4-9BA3-157A1D7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8D31-9ECC-4915-A9C2-711BDC58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CD53-08A2-42BE-9054-274F0630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CE6B7-C0D9-4AB8-861D-575AB02C2124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8056-417F-476D-AE99-71EEB65E082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0028-7287-4DCE-9BF0-7CAE5455718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11367-94A8-4583-BAFD-96A7ABF2CC13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856B4-30A6-4D35-9EEA-3A0476DA0B49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dbf5f9"/>
                </a:solidFill>
                <a:latin typeface="Arial"/>
              </a:rPr>
              <a:t>NUCLEIC ACIDS - STRUCTURE AND FUNCTION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Learn Denaturation and Renaturation of DNA in 3 minutes."/>
          <p:cNvPicPr/>
          <p:nvPr/>
        </p:nvPicPr>
        <p:blipFill>
          <a:blip r:embed="rId2"/>
          <a:srcRect l="0" t="25558" r="0" b="0"/>
          <a:stretch/>
        </p:blipFill>
        <p:spPr>
          <a:xfrm>
            <a:off x="123840" y="1082520"/>
            <a:ext cx="8896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ibonucleic acid - R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single chai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lecu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bonucleotide contains the pentose sugar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ead of thymine, the pyrimidine base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 represen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Types of R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5" descr="Types of RNA | BioNinja"/>
          <p:cNvPicPr/>
          <p:nvPr/>
        </p:nvPicPr>
        <p:blipFill>
          <a:blip r:embed="rId1"/>
          <a:stretch/>
        </p:blipFill>
        <p:spPr>
          <a:xfrm>
            <a:off x="0" y="2019240"/>
            <a:ext cx="91440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Functions Of Mrna Rrna And Trna – Otosection"/>
          <p:cNvPicPr/>
          <p:nvPr/>
        </p:nvPicPr>
        <p:blipFill>
          <a:blip r:embed="rId1"/>
          <a:stretch/>
        </p:blipFill>
        <p:spPr>
          <a:xfrm>
            <a:off x="1182600" y="0"/>
            <a:ext cx="677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01760" y="236232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quence of DNA molecules that carries information for the synthesis of a functional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s are distributed along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5335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hereditary in a living organ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7" descr="What Are Genes Made Of? Genes are segments of the DNA sequence | MelixGX"/>
          <p:cNvPicPr/>
          <p:nvPr/>
        </p:nvPicPr>
        <p:blipFill>
          <a:blip r:embed="rId1"/>
          <a:stretch/>
        </p:blipFill>
        <p:spPr>
          <a:xfrm>
            <a:off x="4710240" y="236232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Gene structur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1920" y="1980720"/>
            <a:ext cx="4419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ends on the arrangement and order of the 4 types of nucleotides (A type, G type, C type, T type of nucleotid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7" descr="DNA, Genes &amp; Chromosomes Overview"/>
          <p:cNvPicPr/>
          <p:nvPr/>
        </p:nvPicPr>
        <p:blipFill>
          <a:blip r:embed="rId1"/>
          <a:stretch/>
        </p:blipFill>
        <p:spPr>
          <a:xfrm>
            <a:off x="4952880" y="152280"/>
            <a:ext cx="3853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990720"/>
            <a:ext cx="4114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ic structure of genes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ones and intron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219320" y="4876920"/>
            <a:ext cx="5943600" cy="144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Gene — Definition &amp; Role in Inheritance - Expii"/>
          <p:cNvPicPr/>
          <p:nvPr/>
        </p:nvPicPr>
        <p:blipFill>
          <a:blip r:embed="rId2"/>
          <a:stretch/>
        </p:blipFill>
        <p:spPr>
          <a:xfrm>
            <a:off x="4572000" y="976320"/>
            <a:ext cx="4484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Size of the ge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s average length is around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600-18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ase pairs (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Single nucletide size is 0,34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Number of ge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international research effort called the Human Genome Project, which worked to determine the sequence of the human genome and identify the genes that it contains, estimated that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humans have between 20,000 and 25,000 gen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very person has two copies of each gene, one inherited from each pa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7" descr="Gene Comparisons | BioNinja"/>
          <p:cNvPicPr/>
          <p:nvPr/>
        </p:nvPicPr>
        <p:blipFill>
          <a:blip r:embed="rId1"/>
          <a:stretch/>
        </p:blipFill>
        <p:spPr>
          <a:xfrm>
            <a:off x="441360" y="4103640"/>
            <a:ext cx="82296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 allele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forms of the same gene ar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e all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 alleles are caused by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u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never mutated are mono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mutated are poly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hum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28% of genes are poly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72% of genes are mono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6.7% of genes are in the heterozygou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71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4617b"/>
                </a:solidFill>
                <a:latin typeface="Calibri"/>
              </a:rPr>
              <a:t>Human gen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Genes and Chromosomes - Fundamentals - MSD Manual Consumer Version"/>
          <p:cNvPicPr/>
          <p:nvPr/>
        </p:nvPicPr>
        <p:blipFill>
          <a:blip r:embed="rId2"/>
          <a:stretch/>
        </p:blipFill>
        <p:spPr>
          <a:xfrm>
            <a:off x="1517760" y="1031760"/>
            <a:ext cx="61084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Genetic Polymorphism in Drug Metabolism – CYP450 Isoenzymes - ppt download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n organi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combination of gene alleles that determines a trait (A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genes in a haploid chromosome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h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characteristics of an organism that result from the interaction of genotype and environmental fac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Pseudogenes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and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gene famil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seudogenes - gene-like sequences (20,000 pseudogenes in the nuclear genom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Gene family - genes with similar nucleotide sequences located on different chromosomes and determining the same property (the Ig gene family on chromosomes 2, 14, 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Haplotype - genes located on the same chromosome and determining the same property (genes for the HLA system on chromosome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tochondrial genom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chondrial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nome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nuclear gen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contains 16.569 b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ircular chromosome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histon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histo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parative mechanisms are slower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fficient repar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ains only exons (on introns)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aic structu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ach cell contain 1000’s of copies of mtDNA               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py of nuclear DN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t codes for 37 genes, contains 22 tRNA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 rRNA ge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genes provid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or making protei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mtDNA h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unique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genetic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 co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om nuclear co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and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rgin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tDNA are stop codon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itochond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yptoph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st of the proteins needed in the mitochondria are synthesized in the cytopla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tochondrial genes determine phenotypic traits - maternal inherit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uromuscular diseases are often the result of mtDNA mutation and are maternally transmitt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oxyribonucleic acid - D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s information for protein synthesi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periodically chang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self-reproduce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s why it is labeled as a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ereditary sub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ary structure of the DNA molecule was proposed by Watson and Crick in 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NA molecule consists of two polynucleotide chains of complementary structure that are spirally wrapped around each other and connected by hydrogen bo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Basic building unit 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ucleotid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 nucleotide consists of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deoxyribos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pentose sug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hosphate groups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sr-Latn-CS" sz="2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nitrogen base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 purine or pyrimid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thin one chain, nucleotides are interconnected by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phosphodiester bon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type of base, we distinguish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4 types of nucleoti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bonds are formed between the complementary bases of the two opposite strands of the DNA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amount of guanine is equal to the amount of cytosine, and the amount of adenine is equal to the amount of thymine - that is, the quantity of purine is equal to the quantity of pyrimidine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Chargaff's rul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51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Hydrogen bond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Types of DNA sequenc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ingle copy sequences (unique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have one copy, functional, responsible for the synthesis of polypept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iddle repetitiv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-10 000 x) sequences - functional, responsible for the synthesis of tRNA and rRNA. And mRNA for histone synthe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ighly repetitive sequence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repeated over 10 000 times - are not functional, satellite DNA in the centromere region of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7.1 – 7.2 | darlagjames"/>
          <p:cNvPicPr/>
          <p:nvPr/>
        </p:nvPicPr>
        <p:blipFill>
          <a:blip r:embed="rId2"/>
          <a:stretch/>
        </p:blipFill>
        <p:spPr>
          <a:xfrm>
            <a:off x="870120" y="749160"/>
            <a:ext cx="7403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Denaturation and renatu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heating the medium on which the DNA molecule is located, the hydrogen bonds are broken and the chains are separat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gradually cooling the medium, hydrogen bonds and the helicoidal structure are re-establish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NA hybridiz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 method for assessing genetic similarity between distant species, and in molecular genetics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Microsoft Office User</cp:lastModifiedBy>
  <dcterms:modified xsi:type="dcterms:W3CDTF">2022-10-31T12:59:42Z</dcterms:modified>
  <cp:revision>116</cp:revision>
  <dc:subject/>
  <dc:title>2-Humani genom</dc:title>
</cp:coreProperties>
</file>